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B6F-A00D-47E8-9801-A6557193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298-7A2C-4952-B646-20D37BC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1AB-0BDB-4702-8032-0EC09499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FC6-A685-48F2-956B-0848434E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4ECE-2A4F-4E50-AE11-7BD98AB3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1D18-FD26-4488-8ABC-FFE50F3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8AE6-C3D0-40AE-A733-5B09D2E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FDD6-D483-4CA8-9942-7896EFE9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3599-EB1D-4A16-B950-1B16ADE0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796E-84AF-4379-BA0C-433B6C9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E1E5-4F74-44C6-B52F-99A91AA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4FC-1823-4B71-9B25-80EB1556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41B6-99AC-444C-AE3E-FD09B24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A353-FCE1-4A1D-9D4B-D06EBF2C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152-02DF-4836-A0EE-454B342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8B5-E9FA-4F38-B4C5-0D208F41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B0DE-7BA6-4638-9D4E-9BC435C5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C80-ACFF-41BB-A14A-7AA0A014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806-8902-497D-B7F4-46A9F9F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610-2CE1-4583-9BAB-12BC66D6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1DD-4088-4030-8AC6-D5B9C0F9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C0F-B74F-4D3D-BFBC-D00F7FEF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8C7-F8E8-42B8-8700-87C33E9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46C-7D72-4FF9-A9FB-956DE3D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5B5CA-1870-45B7-A8D1-00D62CD8B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0BE15-A3CA-4D03-8616-B0D109073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 Question:  Under what conditions is it acceptable to rebel against your government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25520"/>
            <a:ext cx="77724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Rebellion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  An intentional refusal to obey the recognized author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bellion” includes a wide range of ac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unit, we will explore and evaluate some specific acts of rebellion against the govern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Protes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  A public expression of opposition to an event or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of the pros and cons of protesting to get your views hear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ivil Disobedienc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  An active refusal to obey a specific la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Disobedience has long been considered an “acceptable” form of rebell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“civil disobedience,” 5 conditions must be me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tuation being protested must be a violation of one’s natural or civil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legal means to change the situation have been tried without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est cannot be self-ser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est must be peace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esters willingly accept the consequences of their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Terrorism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  Violent acts meant to create fear among the general public in order to achieve a political go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2:59:17Z</dcterms:created>
  <dc:creator>Dominic Lambek</dc:creator>
  <dc:description/>
  <dc:language>en-US</dc:language>
  <cp:lastModifiedBy>Dominic Lambek</cp:lastModifiedBy>
  <dcterms:modified xsi:type="dcterms:W3CDTF">2008-11-03T01:31:13Z</dcterms:modified>
  <cp:revision>3</cp:revision>
  <dc:subject/>
  <dc:title>Unit Question:  Under what conditions is rebellion against the government acceptable?</dc:title>
</cp:coreProperties>
</file>